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1EB3C-525E-4490-8A5F-69B7FC399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EB2B-1DAC-4EE9-856C-6D6CEA18A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EAFB5-4039-4F14-8667-51E8448FA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4B129-B01A-4952-9B80-2597187D0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9B896-6DB6-4365-8E81-33387AE03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1DEA6-BEE7-4E43-AA3C-10CBCA1E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B07CF-D4C7-4886-8A6E-185513B29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223B-D414-471B-9DBE-AF4C729D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ED3D-1D46-40A4-9B14-146AF757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2A11-2462-4DF7-BB5F-36DAEB980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226C-EB89-438E-8F1B-9EB0E709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B95A-7BAE-41EE-A56B-9D3EC2655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CF2D-8C1F-43FF-8996-9DB2F0E2DF0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9407-F442-48B6-95E3-3880FE97D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grofont"/>
                <a:ea typeface="Times New Roman"/>
              </a:rPr>
              <a:t>WBF Bidding Box Procedures</a:t>
            </a:r>
            <a:br>
              <a:rPr sz="4400"/>
            </a:br>
            <a:r>
              <a:rPr b="1" lang="en-GB" sz="4400" spc="-1" strike="noStrike">
                <a:solidFill>
                  <a:srgbClr val="000066"/>
                </a:solidFill>
                <a:latin typeface="Agrofont"/>
                <a:ea typeface="Times New Roman"/>
              </a:rPr>
              <a:t>for use without screens</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AF51DFB8-F2FD-4AB3-8BDC-CA5F969DF799}" type="slidenum">
              <a:t>1</a:t>
            </a:fld>
          </a:p>
        </p:txBody>
      </p:sp>
      <p:sp>
        <p:nvSpPr>
          <p:cNvPr id="6" name="PlaceHolder 5"/>
          <p:cNvSpPr>
            <a:spLocks noGrp="1"/>
          </p:cNvSpPr>
          <p:nvPr>
            <p:ph type="dt" idx="1"/>
          </p:nvPr>
        </p:nvSpPr>
        <p:spPr/>
        <p:txBody>
          <a:bodyPr/>
          <a:p>
            <a:fld id="{74FE423A-BC1D-4870-A227-F9CA92E7CA1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a:t>
            </a:r>
            <a:r>
              <a:rPr b="0" lang="nb-NO" sz="2400" spc="-1" strike="noStrike">
                <a:solidFill>
                  <a:srgbClr val="000066"/>
                </a:solidFill>
                <a:latin typeface="Agrofont"/>
                <a:ea typeface="Times New Roman"/>
              </a:rPr>
              <a:t>. I</a:t>
            </a:r>
            <a:endParaRPr b="0" lang="en-US" sz="2400" spc="-1" strike="noStrike">
              <a:solidFill>
                <a:srgbClr val="000066"/>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32640" indent="-33264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grofont"/>
                <a:ea typeface="Times New Roman"/>
              </a:rPr>
              <a:t>Starting with the dealer, </a:t>
            </a:r>
            <a:endParaRPr b="0" lang="en-US" sz="2800" spc="-1" strike="noStrike">
              <a:solidFill>
                <a:srgbClr val="990000"/>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place bidding cards on the table in front of them,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from the left and neatly overlapping so that calls are visible and faced towards partner;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should refrain from touching any bidding cards until they have determined their call.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A call is considered to be made when the bidding card(s) is removed from the bidding box with apparent intent ( but Law 25 may ap</a:t>
            </a:r>
            <a:r>
              <a:rPr b="0" lang="nb-NO" sz="2400" spc="-1" strike="noStrike">
                <a:solidFill>
                  <a:srgbClr val="000066"/>
                </a:solidFill>
                <a:latin typeface="Agrofont"/>
                <a:ea typeface="Times New Roman"/>
              </a:rPr>
              <a:t>p</a:t>
            </a:r>
            <a:r>
              <a:rPr b="0" lang="en-GB" sz="2400" spc="-1" strike="noStrike">
                <a:solidFill>
                  <a:srgbClr val="000066"/>
                </a:solidFill>
                <a:latin typeface="Agrofont"/>
                <a:ea typeface="Times New Roman"/>
              </a:rPr>
              <a: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D09F5968-776F-4E17-A011-F7BD61178C41}" type="slidenum">
              <a:t>2</a:t>
            </a:fld>
          </a:p>
        </p:txBody>
      </p:sp>
      <p:sp>
        <p:nvSpPr>
          <p:cNvPr id="6" name="PlaceHolder 5"/>
          <p:cNvSpPr>
            <a:spLocks noGrp="1"/>
          </p:cNvSpPr>
          <p:nvPr>
            <p:ph type="dt" idx="1"/>
          </p:nvPr>
        </p:nvSpPr>
        <p:spPr/>
        <p:txBody>
          <a:bodyPr/>
          <a:p>
            <a:fld id="{686D483A-E561-4245-87B7-371706928FA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grofont"/>
                <a:ea typeface="Times New Roman"/>
              </a:rPr>
              <a:t>The WBF recommends the following procedure when bidding boxes are in use without screens</a:t>
            </a:r>
            <a:r>
              <a:rPr b="1" lang="nb-NO" sz="2400" spc="-1" strike="noStrike">
                <a:solidFill>
                  <a:srgbClr val="000066"/>
                </a:solidFill>
                <a:latin typeface="Agrofont"/>
                <a:ea typeface="Times New Roman"/>
              </a:rPr>
              <a:t>. II</a:t>
            </a:r>
            <a:endParaRPr b="0" lang="en-US" sz="2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lerts should be made by use of the alert card; it is the responsibility of the alerting player to ensure that his opponents are aware of the alerts.</a:t>
            </a:r>
            <a:r>
              <a:rPr b="0" lang="en-GB" sz="3200" spc="-1" strike="noStrike">
                <a:solidFill>
                  <a:srgbClr val="990000"/>
                </a:solidFill>
                <a:latin typeface="Agrofont"/>
                <a:ea typeface="Times New Roman"/>
              </a:rPr>
              <a:t> </a:t>
            </a:r>
            <a:endParaRPr b="0" lang="en-US" sz="3200" spc="-1" strike="noStrike">
              <a:solidFill>
                <a:srgbClr val="990000"/>
              </a:solidFill>
              <a:latin typeface="Times New Roman"/>
            </a:endParaRPr>
          </a:p>
          <a:p>
            <a:pPr marL="318960" indent="-31896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 player ‘announces’ a skip bid by placing the stop card in front of him, then placing his bid card as usual, and eventually removing the stop card. His LHO should not call until the stop card has been removed. *</a:t>
            </a:r>
            <a:endParaRPr b="0" lang="en-US" sz="2400" spc="-1" strike="noStrike">
              <a:solidFill>
                <a:srgbClr val="990000"/>
              </a:solidFill>
              <a:latin typeface="Times New Roman"/>
            </a:endParaRPr>
          </a:p>
          <a:p>
            <a:pPr lvl="1" marL="690840" indent="-26568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 If the stop card has been removed hastily or has not been used, an opponent may pause as though the stop card had been used correc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9B710929-2850-4A8E-AC65-D207683EF489}" type="slidenum">
              <a:t>3</a:t>
            </a:fld>
          </a:p>
        </p:txBody>
      </p:sp>
      <p:sp>
        <p:nvSpPr>
          <p:cNvPr id="6" name="PlaceHolder 5"/>
          <p:cNvSpPr>
            <a:spLocks noGrp="1"/>
          </p:cNvSpPr>
          <p:nvPr>
            <p:ph type="dt" idx="1"/>
          </p:nvPr>
        </p:nvSpPr>
        <p:spPr/>
        <p:txBody>
          <a:bodyPr/>
          <a:p>
            <a:fld id="{91CDEB83-B2C1-4EA4-8343-5B35919FFA8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II</a:t>
            </a:r>
            <a:r>
              <a:rPr b="0" lang="nb-NO" sz="2400" spc="-1" strike="noStrike">
                <a:solidFill>
                  <a:srgbClr val="000066"/>
                </a:solidFill>
                <a:latin typeface="Agrofont"/>
                <a:ea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grofont"/>
                <a:ea typeface="Times New Roman"/>
              </a:rPr>
              <a:t>Until they are removed from the table, a player obtains a review of the auction by inspecting the bidding cards. </a:t>
            </a:r>
            <a:br>
              <a:rPr sz="3200"/>
            </a:br>
            <a:r>
              <a:rPr b="0" lang="nb-NO" sz="3200" spc="-1" strike="noStrike">
                <a:solidFill>
                  <a:srgbClr val="990000"/>
                </a:solidFill>
                <a:latin typeface="Agrofont"/>
              </a:rPr>
              <a:t> </a:t>
            </a:r>
            <a:endParaRPr b="0" lang="en-US" sz="32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grofont"/>
                <a:ea typeface="Times New Roman"/>
              </a:rPr>
              <a:t>When such an inspection is not feasible, </a:t>
            </a:r>
            <a:endParaRPr b="0" lang="en-US" sz="28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grofont"/>
                <a:ea typeface="Times New Roman"/>
              </a:rPr>
              <a:t>a player may obtain an oral review of the auction at his first turn to play to trick one.</a:t>
            </a:r>
            <a:endParaRPr b="0" lang="en-US" sz="2000" spc="-1" strike="noStrike">
              <a:solidFill>
                <a:srgbClr val="99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3AA25E53-C02A-4384-BFCB-19F053EC1A45}" type="slidenum">
              <a:t>4</a:t>
            </a:fld>
          </a:p>
        </p:txBody>
      </p:sp>
      <p:sp>
        <p:nvSpPr>
          <p:cNvPr id="6" name="PlaceHolder 5"/>
          <p:cNvSpPr>
            <a:spLocks noGrp="1"/>
          </p:cNvSpPr>
          <p:nvPr>
            <p:ph type="dt" idx="1"/>
          </p:nvPr>
        </p:nvSpPr>
        <p:spPr/>
        <p:txBody>
          <a:bodyPr/>
          <a:p>
            <a:fld id="{6FB1F52A-43CA-4D07-8633-CD054563577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10:41:39Z</dcterms:created>
  <dc:creator>Per Nordland</dc:creator>
  <dc:description/>
  <dc:language>en-US</dc:language>
  <cp:lastModifiedBy>Per Nordland</cp:lastModifiedBy>
  <dcterms:modified xsi:type="dcterms:W3CDTF">2002-04-22T20:30:16Z</dcterms:modified>
  <cp:revision>3</cp:revision>
  <dc:subject/>
  <dc:title>WBF Bidding Box Procedures for use without screens</dc:title>
</cp:coreProperties>
</file>